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8C09-9D7D-4D5A-AD1F-8E0F7965853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7CDB-5C47-45C9-A834-170E43F2D6EF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E7BEF-7E71-47D4-A3F2-9ADD355FA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8E0D0-30B3-4340-AC5A-122A0A4B7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CE5C2-B629-4DF1-AABE-552F11E15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F9DBC-34F4-443B-B73C-D1C02E204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699F5-E0AC-4F39-9584-2FB24D169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BF560-5A61-46C4-B789-0F7DF4A20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A45B1-110B-4714-90D9-9FDA30341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05E87-6E02-49C7-91B9-6E1D4AC89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EDBBD-100D-4255-A45F-3D2A9712E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F08DD-E9BA-4E91-BA3B-6C598A3DE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F800A-0A75-441C-B2CB-8C48B0750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004B6-C5D6-48D3-9DE9-D84B5DC67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24D4D780-E2E4-4FCD-9F21-32B54841109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2E309DF9-C97E-409A-B0D6-DB0917CF9CB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rts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fess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96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55BAE484-1FB5-4137-BEAF-31796255040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Assault and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informed con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uct must not exceed con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lf-de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use reasonable force in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in response to immediate thr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92B1FEA4-3562-4C4E-945C-FDDB3B3AF65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alse Impris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awful re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phys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simply compliance if victim thinks there is no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rrest by private citizen when no crime has take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D99C27FC-C000-480E-A27E-7DA5355DF97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esp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ing onto another’s property without permission or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istake as to property line is no def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permission revoked, must give person opportunity to le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f refusal, may eject using reasonable force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ed only intend the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86CF44ED-14F8-44B7-A4ED-42AD6B3699F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espas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 not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to trespassers minimal, but greater if a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direct trespass – throwing something onto another’s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inuing trespass – building, fenc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defence for trespass:  Intruder had no control over where he/she w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60E8F9B2-2FF2-4081-A439-F89B9C61DF8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uis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ivate nuis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ing your property so as to substantially interfere with your neighbour’s use of his/her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inappropriate use of your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ference must have been reasonably forese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medies: damages or an inj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376AB13A-986B-43AA-9AFF-0AC5CF247C8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a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rogatory false statement to detriment of a person, company, or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bel – written defa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includes broadcasted defa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lander – spoken defa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involve innu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9936DE78-EB5E-4699-A45F-46062660E67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am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refer to the plain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publ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municated to a third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istake is no de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bel may also be cri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communications now an important cause of defamation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CC8B2D49-9B5D-4477-9054-93B991E6FC8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Defa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bstantially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fendant must prove statement was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bsolute privi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ements made on floor of legislature or Parliament, in senior government committees, or while giving testimony in 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6D8099F0-2BA1-4DDC-9136-CB45D90578E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Defam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Qualified privi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statement made pursuant to a duty, person cannot be sued if it turns out to be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owed if person who made statement thought it was true, made statement without malice, and only communicated it to those with need to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7671E20F-5BCF-4DDE-9A8C-59B3B28004D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Defamation 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imes New Roman"/>
              </a:rPr>
              <a:t>Fair comment and Responsible Communic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fences used mostly by the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ir Comment is expression of opinion about public figures, work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based on true facts known to 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made without ma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ible Communication protects media if reasonable diligence used to verify facts even if facts turn out not to be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E18B6580-76CE-4AB6-9E0C-7781DE101BA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nd differentiate a tort from a c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several types of intentional t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he elements required to establish negligent con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 defences available to alleged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805D4463-C4FE-46AB-88D7-323CA4CD20D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05120" y="1797120"/>
            <a:ext cx="57150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D2AF29E7-1299-4672-9FB0-B65BA648B4D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lig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volves inadvertent or careless conduct causing injury or loss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care must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uct must fall below standard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jury or loss must result from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sonable person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haviour that is higher than average, but less than per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F5E2139E-18B0-46FB-A26E-675B8CD02E7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uty of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sonable foreseeability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care owed to anyone we can reasonably foresee would be harmed by what we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Donoghu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v.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evenson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ed test to determine if duty of care is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se led to two-stage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 of proximity between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to allow court to modify nature of d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7F6174B7-9192-4BA6-84EB-EF035C72999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tandard of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quired standard of care is determined by reasonable person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vel of risk, cost, and potential loss are important factors to be consid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perts held to standard of a reasonable person in their prof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ABEF2698-EBDC-4F5C-BB5E-18FBE1FC634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tandard of Car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ircumstantial evidence may lead to finding of negli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ecial standards may be set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ccupiers’ liability 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nkee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mon 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ance to avoid risks of tort 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EA73998D-0ACC-4712-9C02-E026444834F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usation and Da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 complained of was cause of injury or 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753876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3EA7BAB0-FCE6-4F81-AB74-7F17E44E7E9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Neglig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ibutory negli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plaintiff contributed to own loss, he/she must bear some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st jurisdictions have a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Contributory Negligence Act,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allowing courts to assign proportional 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A51B7DFD-354D-45ED-81F4-F97E225C944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Negligenc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oluntary assumption of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liberately putting oneself in harm’s way disqualifies one from suing for injury or loss tha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laintiff has assumed both physical risk of activity as well as legal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clear that plaintiff absolved the other party of responsibility; very difficult to pr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2AEDF65C-EAEA-43FB-93FC-053141E777F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nces to Negligenc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mot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Mustapha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determine whether a particular injury was reasonably forese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connection between the conduct and injury was too indirect or unexpected, no liability will be imp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legal causal connection is found, victims must be fully compensated, even if more vulnerable to loss than u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CE18002D-B9B1-4838-AF9E-5F40B911155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duct 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show defendant failed to live up to standard of reasonable manufactu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use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rima faci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ase of negligence (circumstantial evid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 some jurisdictions, manufacturer has increased liability through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ider the significance of finding a duty of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ce the development of law related to product 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pply tort principles to professional con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dentify a number of business-related t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57388AED-B40C-4A15-9408-9D0548BEBEE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E4A44144-F5A4-4B78-9B25-00CB33EF250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of care to third parties who rely on  work of professionals and are caused loss as a 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ed to limit this to physical loss or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Haig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v.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Bamford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allowed recovery for pure economic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A48D4C97-3A32-4F6E-83B8-2850B5F920C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Anns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se is test for new or unique situations where duty of care must be determ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gree of proximity between the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reason to allow court to modify (or not impose) the duty or limit the class to whom duty is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1DA16E14-E70A-4D33-A336-8FADD4CC907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fessional expected to have degree of expertise of a reasonable professional in that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experience is no de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ndard practice of the profession may not be en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0E8BD91A-A5A1-46CF-BB26-A68C7AD5E61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uciary duty – duty to act in best interests of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loyalty and good 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 funds are held in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ject to rules of professional assoc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ability insurance may reduce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gligence may also be cri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083CCD59-56CD-4DCC-8347-B82B6B0A325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ther Business T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raud or dec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ly misleading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jurious falsehood or product defa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preading false information about a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ducing breach of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 “stealing” an employee from a compe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F39B4BE0-9979-4408-8452-94C7016047D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ther Business Tor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ssing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isleading public by using similar name, log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espass to chatt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amaging or interfering with persona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aking property of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ivacy vio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be regulatory or tort by sta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29EBE440-F297-492A-8C1F-A8EED4E9494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or civil court action where the injured party sues wrongdoer for compensation for wrongful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riminal matters, society (through a crown prosecutor) brings the action to punish the off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ful conduct may be both a crime and a t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E0F8A219-B8EC-4F27-865C-CB8B77FDBE6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or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actions are brought by a party because the agreement has been brea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s are vicariously liable for all torts committed by employees during the course of their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ile doing what employed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9CEE6BE6-FE75-4234-A15C-5614BF3EF1B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ntional T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a deliberate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only intend the conduct, not th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conduct is accidental, it would be negligence, rather than an intentional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30AC0883-22E0-4705-8476-DDC20A1914A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ault and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ntional t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tional physical interference with another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forms of assault and battery may also be criminal off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DFC03669-1B1A-4289-B764-CC7078F2C60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ault and Batter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reat to harm another (from victim’s percep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be im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be physically possible to carry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ed not be harmful, just unw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hysical contact not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49A9C9B0-D339-4BCD-AD9D-196039F96A2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ault and Batter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wa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volves physical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ven if contact is beneficial (such as medical treatment), if it is unwanted, it is still bat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3:17:24Z</dcterms:created>
  <dc:creator>lori</dc:creator>
  <dc:description/>
  <dc:language>en-US</dc:language>
  <cp:lastModifiedBy>User</cp:lastModifiedBy>
  <dcterms:modified xsi:type="dcterms:W3CDTF">2012-04-24T16:03:09Z</dcterms:modified>
  <cp:revision>134</cp:revision>
  <dc:subject/>
  <dc:title>Chapter One</dc:title>
</cp:coreProperties>
</file>